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939-F087-4927-9E48-909E9058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41C-7049-4360-9488-2CA116F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DF0-8569-442A-8DD8-179B2346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945-20B3-48E3-9DD3-46E12D07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46D-0679-4C8D-8001-26B0E3A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CBF-9C6B-4B62-9E77-232C04CF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EE0-E2E3-404F-BA84-3826C23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C44-D895-4BA5-922C-EDE20476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665-C98C-430A-9752-D3DE0AA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9E3-614E-4E50-BD65-3EA443F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855-F759-42D4-A056-18114FD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C7B-CBEE-4149-BE8F-E125D04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51D0-6BD3-415B-BB7F-45B45ECCD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8/Pils_-_Rouget_de_Lisle_chantant_la_Marseillais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-lg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1463760"/>
            <a:ext cx="901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ve La Révolution!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arsfull.mp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oratio_nelson_first_viscount"/>
          <p:cNvPicPr/>
          <p:nvPr/>
        </p:nvPicPr>
        <p:blipFill>
          <a:blip r:embed="rId1"/>
          <a:stretch/>
        </p:blipFill>
        <p:spPr>
          <a:xfrm>
            <a:off x="0" y="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838080" y="-770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iblog.co.za/wp-content/blogs.dir/9298/uploads/united%20iri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73520" y="228600"/>
            <a:ext cx="9001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oi! des cohortes étrangères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feraient la loi dans nos foye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oi! ces phalanges mercenaires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terrasseraient nos fiers guerrie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(bi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VNT2A-00042~Rioters-Attack-the-Royal-Palace-during-the-French-Revolution-Posters"/>
          <p:cNvPicPr/>
          <p:nvPr/>
        </p:nvPicPr>
        <p:blipFill>
          <a:blip r:embed="rId1"/>
          <a:srcRect l="3902" t="9373" r="3902" b="135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62640" y="152280"/>
            <a:ext cx="9173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Grand Dieu! par des mains enchaînées nos fronts sous le joug se ploieraient 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de vil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despotes deviendraient </a:t>
            </a: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les maîtres de nos destinées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475938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10134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066680" y="35042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beheading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-38160" y="15120"/>
            <a:ext cx="92026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mblez, tyrans et vous perfides l'opprobre de tous les partis, tremblez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s projets parricides vont enfin recevoir leurs prix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bis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15118-004-DC4A3F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-61560" y="151920"/>
            <a:ext cx="910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ut est soldat pour vous combattre, s'ils tombent, nos jeunes héro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 terre en produit de nouveaux, contre vous tout prêts à se batt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apoleon_horse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ambafrance-uk.org/IMG/jpg_bastille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Arial"/>
              </a:rPr>
              <a:t>Allons enfants de la Patrie, le jour de gloire est arriv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french_revolutio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-29160" y="-114480"/>
            <a:ext cx="8788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Français, en guerriers magnanimes, portez ou retenez vos coup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Épargnez ces tristes victimes, À regret s'armant contre no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marquis_de_bouille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8720" y="228240"/>
            <a:ext cx="857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is ces despotes sanguinaires, mais ces complices de Bouillé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us ces tigres qui, sans pitié, Déchirent le sein de leur mè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apoleon_horse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French_Revolution-1792-8-10_Paris_Commu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92240" y="-22320"/>
            <a:ext cx="8398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mour sacré de la Patrie, conduis, soutiens nos bras vengeu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iberté, liberté chérie, combats avec tes défenseurs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(bi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4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Scene-Of-The-1830-Revolution-At-The-Louv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212400" y="151920"/>
            <a:ext cx="8544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ous nos drapeaux que la victoire accoure à tes mâles accent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que tes ennemis expirants voient ton triomphe et notre gloir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Louis_XVIII2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372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838080" y="46472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fr-lg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1463760"/>
            <a:ext cx="9010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ve La Révolution!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ar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9960" y="227160"/>
            <a:ext cx="770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e nous de la tyrannie, l'étendard sanglant est le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tstours.ca/cms_images/French%20Countrys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endez-vous dans les campagnes mugir ces féroces sold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2" descr="https://jspivey.wikispaces.com/file/view/louis16france.jpg"/>
          <p:cNvPicPr/>
          <p:nvPr/>
        </p:nvPicPr>
        <p:blipFill>
          <a:blip r:embed="rId1"/>
          <a:stretch/>
        </p:blipFill>
        <p:spPr>
          <a:xfrm>
            <a:off x="0" y="-2514600"/>
            <a:ext cx="9144000" cy="1013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143000" y="2590920"/>
          <a:ext cx="7534440" cy="1463400"/>
        </p:xfrm>
        <a:graphic>
          <a:graphicData uri="http://schemas.openxmlformats.org/drawingml/2006/table">
            <a:tbl>
              <a:tblPr/>
              <a:tblGrid>
                <a:gridCol w="7318440"/>
                <a:gridCol w="2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s viennent jusque dans vos bras egorger vos fils, vos compagnes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8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www.rjgeib.com/thoughts/french/liberty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762120" y="4266360"/>
            <a:ext cx="7162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ke-wellington-600"/>
          <p:cNvPicPr/>
          <p:nvPr/>
        </p:nvPicPr>
        <p:blipFill>
          <a:blip r:embed="rId1"/>
          <a:stretch/>
        </p:blipFill>
        <p:spPr>
          <a:xfrm>
            <a:off x="0" y="-38088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38080" y="419004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ux armes, citoyens, formez vos bataillons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marchons, marchons!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Qu'un sang impu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breuve nos sillons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rosenblumtv.files.wordpress.com/2007/05/french-revolution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8600" y="4320"/>
            <a:ext cx="91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e veut cette horde d'esclaves, de traîtres, de rois conjuré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qui ces ignobles entraves, ces fers dès longtemps prépar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bis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ile:Pils - Rouget de Lisle chantant la Marseilla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10240" y="244080"/>
            <a:ext cx="900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Français, pour nous, ah! quel outrage quels transports il doit exciter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C'est nous qu'on ose méditer de rendre à l'antique esclavage!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5:51:53Z</dcterms:created>
  <dc:creator>Student</dc:creator>
  <dc:description/>
  <dc:language>en-US</dc:language>
  <cp:lastModifiedBy>anne metaxas</cp:lastModifiedBy>
  <dcterms:modified xsi:type="dcterms:W3CDTF">2010-02-24T15:07:06Z</dcterms:modified>
  <cp:revision>16</cp:revision>
  <dc:subject/>
  <dc:title>Allons enfants de la Patrie, le jour de gloire est arrivé !</dc:title>
</cp:coreProperties>
</file>